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byipee04.wav" ContentType="audio/x-wav"/>
  <Override PartName="/ppt/media/CHIMES.WAV" ContentType="audio/x-wav"/>
  <Override PartName="/ppt/media/hzipup01.wav" ContentType="audio/x-wav"/>
  <Override PartName="/ppt/media/carbrake.wav" ContentType="audio/x-wav"/>
  <Override PartName="/ppt/media/telephone.wav" ContentType="audio/x-wav"/>
  <Override PartName="/ppt/media/zipdn102.wav" ContentType="audio/x-wav"/>
  <Override PartName="/ppt/media/zipup202.wav" ContentType="audio/x-wav"/>
  <Override PartName="/ppt/media/bserie06.wav" ContentType="audio/x-wav"/>
  <Override PartName="/ppt/media/zipby102.wav" ContentType="audio/x-wav"/>
  <Override PartName="/ppt/media/driveby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3D9-D6BE-4CF1-8FCB-D2E2D93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8A8-2EF4-45FA-A8DA-7CCBC0E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F10-A1FB-402A-91C8-95EF1B05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3DD-299D-4160-B567-01E5BD1A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A6A-9E20-44D1-B6CD-1526954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9BB-240E-476D-9021-4110CCC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B7E-9901-4263-9A78-3691298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1AF-57FF-407C-A6A4-604B5EC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D95-9FAA-46BB-8BFC-41ABA52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BF5-C1A5-4248-9E6A-DD0ADB1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3C-158A-4B5C-948C-D60A920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F94-0E2A-4073-9153-AA2E650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BE8-6267-4B81-A025-0830FA89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audio" Target="../media/telephone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byipee04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zipby102.wav"/><Relationship Id="rId9" Type="http://schemas.openxmlformats.org/officeDocument/2006/relationships/audio" Target="../media/zipby1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zipdn102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boinng04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bserie06.wav"/><Relationship Id="rId14" Type="http://schemas.openxmlformats.org/officeDocument/2006/relationships/audio" Target="../media/byipee04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oinng04.wav"/><Relationship Id="rId8" Type="http://schemas.openxmlformats.org/officeDocument/2006/relationships/audio" Target="../media/bserie06.wav"/><Relationship Id="rId9" Type="http://schemas.openxmlformats.org/officeDocument/2006/relationships/audio" Target="../media/boinng04.wav"/><Relationship Id="rId10" Type="http://schemas.openxmlformats.org/officeDocument/2006/relationships/audio" Target="../media/bserie06.wav"/><Relationship Id="rId11" Type="http://schemas.openxmlformats.org/officeDocument/2006/relationships/audio" Target="../media/byipee04.wav"/><Relationship Id="rId12" Type="http://schemas.openxmlformats.org/officeDocument/2006/relationships/audio" Target="../media/byipee04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driveby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boinng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ipdn102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bserie06.wav"/><Relationship Id="rId16" Type="http://schemas.openxmlformats.org/officeDocument/2006/relationships/audio" Target="../media/byipee04.wav"/><Relationship Id="rId17" Type="http://schemas.openxmlformats.org/officeDocument/2006/relationships/audio" Target="../media/byipee04.wav"/><Relationship Id="rId18" Type="http://schemas.openxmlformats.org/officeDocument/2006/relationships/audio" Target="../media/byipee04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zipdn102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boinng04.wav"/><Relationship Id="rId10" Type="http://schemas.openxmlformats.org/officeDocument/2006/relationships/audio" Target="../media/bserie06.wav"/><Relationship Id="rId11" Type="http://schemas.openxmlformats.org/officeDocument/2006/relationships/audio" Target="../media/boinng04.wav"/><Relationship Id="rId12" Type="http://schemas.openxmlformats.org/officeDocument/2006/relationships/audio" Target="../media/bserie06.wav"/><Relationship Id="rId13" Type="http://schemas.openxmlformats.org/officeDocument/2006/relationships/audio" Target="../media/byipee04.wav"/><Relationship Id="rId14" Type="http://schemas.openxmlformats.org/officeDocument/2006/relationships/audio" Target="../media/byipee04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oinng04.wav"/><Relationship Id="rId5" Type="http://schemas.openxmlformats.org/officeDocument/2006/relationships/audio" Target="../media/boinng04.wav"/><Relationship Id="rId6" Type="http://schemas.openxmlformats.org/officeDocument/2006/relationships/audio" Target="../media/driveby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oinng04.wav"/><Relationship Id="rId14" Type="http://schemas.openxmlformats.org/officeDocument/2006/relationships/audio" Target="../media/bserie06.wav"/><Relationship Id="rId15" Type="http://schemas.openxmlformats.org/officeDocument/2006/relationships/audio" Target="../media/byipee04.wav"/><Relationship Id="rId16" Type="http://schemas.openxmlformats.org/officeDocument/2006/relationships/audio" Target="../media/byipee04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byipee04.wav"/><Relationship Id="rId20" Type="http://schemas.openxmlformats.org/officeDocument/2006/relationships/audio" Target="../media/byipee04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546440" y="461484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15800" y="1639800"/>
                <a:ext cx="6328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and Subtract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313240" y="3425760"/>
            <a:ext cx="146556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05400" y="1897200"/>
                <a:ext cx="4413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6040" y="3065400"/>
                <a:ext cx="37926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5240" y="3255840"/>
                <a:ext cx="82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4707000" y="4240080"/>
            <a:ext cx="2724120" cy="363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32520" y="1797120"/>
                <a:ext cx="48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625920" y="2144880"/>
                <a:ext cx="48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55960" y="3236760"/>
                <a:ext cx="1812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49720" y="3160800"/>
                <a:ext cx="34178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37240" y="47736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118120" y="463248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151680" y="476568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10240" y="4649760"/>
                <a:ext cx="908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V="1">
            <a:off x="6045120" y="4779720"/>
            <a:ext cx="147960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96920" y="5029200"/>
                <a:ext cx="19162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14480" y="4740120"/>
                <a:ext cx="29545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17520" y="1639800"/>
                <a:ext cx="46497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and Subtract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81280" y="3551040"/>
            <a:ext cx="1465200" cy="2919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416480" y="1908000"/>
                <a:ext cx="441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4720" y="3165480"/>
                <a:ext cx="27590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9080" y="352116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2262240" y="4365720"/>
            <a:ext cx="2111400" cy="363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25920" y="2144880"/>
                <a:ext cx="48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21200" y="3375000"/>
                <a:ext cx="931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11400" y="476424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514680" y="476892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1996920" y="4943520"/>
            <a:ext cx="1416240" cy="3398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052960" y="3300480"/>
                <a:ext cx="19684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0960" y="1654200"/>
                <a:ext cx="2684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280" y="3065400"/>
                <a:ext cx="28144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55920" y="1558800"/>
                <a:ext cx="87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98600" y="3232080"/>
                <a:ext cx="776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93800" y="4797360"/>
                <a:ext cx="1709640" cy="16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49840" y="2662200"/>
                <a:ext cx="2492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157880" y="2657520"/>
                <a:ext cx="479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493040" y="2793960"/>
                <a:ext cx="814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046920" y="3224160"/>
                <a:ext cx="1485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94040" y="1550880"/>
                <a:ext cx="8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98800" y="3227400"/>
                <a:ext cx="119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3680" y="4883040"/>
                <a:ext cx="377964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4840" y="1654200"/>
                <a:ext cx="3643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7520" y="3067200"/>
                <a:ext cx="419400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06600" y="1589040"/>
                <a:ext cx="1484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43120" y="3206880"/>
                <a:ext cx="16570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67000" y="5002200"/>
                <a:ext cx="82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55760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647800"/>
                <a:ext cx="1773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132600" y="2600280"/>
                <a:ext cx="1485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15360" y="2606760"/>
                <a:ext cx="162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01840" y="1608120"/>
                <a:ext cx="1359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59160" y="3198960"/>
                <a:ext cx="2070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93920" y="5010120"/>
                <a:ext cx="119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1590840"/>
                <a:ext cx="3978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61840" y="3813120"/>
                <a:ext cx="293076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46400" y="2965320"/>
                <a:ext cx="1833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1040" y="4011480"/>
                <a:ext cx="8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55760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02040" y="2647800"/>
                <a:ext cx="1773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505560" y="2695680"/>
                <a:ext cx="47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48640" y="2622600"/>
                <a:ext cx="162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92280" y="1622520"/>
                <a:ext cx="746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0200" y="3997440"/>
                <a:ext cx="827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5560" y="3019320"/>
                <a:ext cx="1179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2379600" y="2593800"/>
            <a:ext cx="151596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4440" y="1625760"/>
                <a:ext cx="306864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6080" y="3065400"/>
                <a:ext cx="36763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3800" y="1581120"/>
                <a:ext cx="1812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85680" y="3206880"/>
                <a:ext cx="1603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9360" y="4884840"/>
                <a:ext cx="22273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846680" y="2662200"/>
                <a:ext cx="1773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27880" y="2673360"/>
                <a:ext cx="4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34240" y="2557440"/>
                <a:ext cx="10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440" y="3176640"/>
                <a:ext cx="1390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41560" y="1758960"/>
                <a:ext cx="881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41600" y="3213000"/>
                <a:ext cx="1293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25600" y="187488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085840"/>
                <a:ext cx="570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06360" y="5191200"/>
                <a:ext cx="519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25760" y="5025960"/>
                <a:ext cx="93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625760"/>
                <a:ext cx="35478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7480" y="3008160"/>
                <a:ext cx="41353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92200" y="1611360"/>
                <a:ext cx="1309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71400" y="3219480"/>
                <a:ext cx="1706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9120" y="4834080"/>
                <a:ext cx="372924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71840" y="2649600"/>
                <a:ext cx="1773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26040" y="2602080"/>
                <a:ext cx="148608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412040" y="2610000"/>
                <a:ext cx="15778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49640" y="1652760"/>
                <a:ext cx="1243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90600" y="3213000"/>
                <a:ext cx="2070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89120" y="186228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57400" y="207324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7080" y="5116680"/>
                <a:ext cx="984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74760" y="4965840"/>
                <a:ext cx="932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0" y="1596960"/>
                <a:ext cx="4267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3454560"/>
                <a:ext cx="29289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12880" y="3652920"/>
                <a:ext cx="774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06480" y="5153040"/>
                <a:ext cx="26416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710240" y="2624040"/>
                <a:ext cx="1773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4040" y="274464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24800" y="2584440"/>
                <a:ext cx="1627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45000" y="1835280"/>
                <a:ext cx="6807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67000" y="3659040"/>
                <a:ext cx="1293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941560" y="182556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468520" y="203508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5560" y="2940120"/>
                <a:ext cx="1833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135080" y="2994120"/>
                <a:ext cx="1179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750960" y="2619000"/>
            <a:ext cx="1654200" cy="2667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62000" y="5459400"/>
                <a:ext cx="984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 flipV="1">
            <a:off x="2435400" y="5563800"/>
            <a:ext cx="41724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479600" y="6308280"/>
            <a:ext cx="4176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930480" y="5141880"/>
                <a:ext cx="19814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41760" y="5977080"/>
                <a:ext cx="13208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3-01T17:51:56Z</dcterms:modified>
  <cp:revision>327</cp:revision>
  <dc:subject/>
  <dc:title>No Slide Title</dc:title>
</cp:coreProperties>
</file>